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11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3A61-DE22-45F1-9216-7477E2D43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B184-BC38-404D-B6B7-941F5666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52A7-47BE-4D3A-BAB7-88213CE90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5EE1-3729-46E5-9F07-ADAB9B89B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B738-C2D5-40B3-B84B-478371803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0266-B7FC-4342-90BB-CD44BF41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DFFE-B708-4DEA-9285-ED67A2EB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982E-0C46-471A-9971-B07576BA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31F9-E847-479C-A8B6-FCBF1E3C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A678-BEEE-4C6B-9E0D-91F351F6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318D-974C-4B22-99FF-FB284456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0F80-E21C-4982-864D-893EDC5A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D0A1-2249-42E8-A690-303C32E4E6B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hyperlink" Target="http://www.google.com.br/imgres?imgurl=http://3.bp.blogspot.com/_uwgmSXQ7ni8/TCCqxDzAQMI/AAAAAAAAAAk/j1iu89C74MQ/s320/passaros.gif&amp;imgrefurl=http://deborabailarina.blogspot.com/2010/06/andorinhas.html&amp;usg=__-QeiUR9sNVGEypA132f-hbLbTM0=&amp;h=258&amp;w=300&amp;sz=33&amp;hl=pt-BR&amp;start=12&amp;zoom=1&amp;itbs=1&amp;tbnid=1YmjO_c81WFV7M:&amp;tbnh=100&amp;tbnw=116&amp;prev=/images%3Fq%3Dp%25C3%25A1ssaros%26hl%3Dpt-BR%26rlz%3D1W1ADSA_pt-BR%26tbs%3Disch:1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two-birds"/>
          <p:cNvPicPr/>
          <p:nvPr/>
        </p:nvPicPr>
        <p:blipFill>
          <a:blip r:embed="rId1"/>
          <a:stretch/>
        </p:blipFill>
        <p:spPr>
          <a:xfrm>
            <a:off x="0" y="55440"/>
            <a:ext cx="9612360" cy="6973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539640" y="907920"/>
            <a:ext cx="822960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Baskerville Old Face"/>
              </a:rPr>
              <a:t>Monte Caste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Baskerville Old Face"/>
              </a:rPr>
              <a:t>Legião Urb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Baskerville Old Face"/>
              </a:rPr>
              <a:t>Composição: Renato Russo (recortes do Apóstolo Paulo e de Camões).</a:t>
            </a:r>
            <a:r>
              <a:rPr b="0" lang="pt-BR" sz="40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1279577512_106022042_1-Fotos-de--Passaros-exoticos-1279577512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1042920" y="1371240"/>
            <a:ext cx="662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Baskerville Old Face"/>
              </a:rPr>
              <a:t>Ainda que eu falasse</a:t>
            </a:r>
            <a:br>
              <a:rPr sz="4400"/>
            </a:br>
            <a:r>
              <a:rPr b="1" lang="pt-BR" sz="4400" spc="-1" strike="noStrike">
                <a:solidFill>
                  <a:srgbClr val="000000"/>
                </a:solidFill>
                <a:latin typeface="Baskerville Old Face"/>
              </a:rPr>
              <a:t>A língua dos homens</a:t>
            </a:r>
            <a:br>
              <a:rPr sz="4400"/>
            </a:br>
            <a:r>
              <a:rPr b="1" lang="pt-BR" sz="4400" spc="-1" strike="noStrike">
                <a:solidFill>
                  <a:srgbClr val="000000"/>
                </a:solidFill>
                <a:latin typeface="Baskerville Old Face"/>
              </a:rPr>
              <a:t>E falasse a língua dos anjos,</a:t>
            </a:r>
            <a:br>
              <a:rPr sz="4400"/>
            </a:br>
            <a:r>
              <a:rPr b="1" lang="pt-BR" sz="4400" spc="-1" strike="noStrike">
                <a:solidFill>
                  <a:srgbClr val="000000"/>
                </a:solidFill>
                <a:latin typeface="Baskerville Old Face"/>
              </a:rPr>
              <a:t>Sem amor eu nada seri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reuniao-dos-passaros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ff"/>
                </a:solidFill>
                <a:latin typeface="Baskerville Old Face"/>
              </a:rPr>
              <a:t>Maria Lúc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ff"/>
                </a:solidFill>
                <a:latin typeface="Baskerville Old Face"/>
              </a:rPr>
              <a:t>Coordenadora do Proje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ff"/>
                </a:solidFill>
                <a:latin typeface="Baskerville Old Face"/>
              </a:rPr>
              <a:t>“</a:t>
            </a:r>
            <a:r>
              <a:rPr b="1" lang="pt-BR" sz="5400" spc="-1" strike="noStrike">
                <a:solidFill>
                  <a:srgbClr val="ffffff"/>
                </a:solidFill>
                <a:latin typeface="Baskerville Old Face"/>
              </a:rPr>
              <a:t>Além das Palavras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ilusoes_101_passaros%20escondido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195640" y="1700280"/>
            <a:ext cx="648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Baskerville Old Face"/>
              </a:rPr>
              <a:t>Ainda que eu falass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Baskerville Old Face"/>
              </a:rPr>
              <a:t>A língua dos home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Baskerville Old Face"/>
              </a:rPr>
              <a:t>E falasse a língua dos anjos,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Baskerville Old Face"/>
              </a:rPr>
              <a:t>Sem amor eu nada se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7" descr="2442_2007-0093-Seagull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Baskerville Old Face"/>
              </a:rPr>
              <a:t>É só o amor! É só o amor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Baskerville Old Face"/>
              </a:rPr>
              <a:t>Que conhece o que é verdade.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Baskerville Old Face"/>
              </a:rPr>
              <a:t>O amor é bom, não quer o mal,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Baskerville Old Face"/>
              </a:rPr>
              <a:t>Não sente inveja ou se envaidece.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1" descr="passaros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000" y="1483920"/>
            <a:ext cx="5616360" cy="47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Baskerville Old Face"/>
              </a:rPr>
              <a:t>O amor é o fogo que arde sem se ver;</a:t>
            </a:r>
            <a:br>
              <a:rPr sz="4400"/>
            </a:br>
            <a:r>
              <a:rPr b="1" lang="pt-BR" sz="4400" spc="-1" strike="noStrike">
                <a:solidFill>
                  <a:srgbClr val="000000"/>
                </a:solidFill>
                <a:latin typeface="Baskerville Old Face"/>
              </a:rPr>
              <a:t>É ferida que dói e não se sente;</a:t>
            </a:r>
            <a:br>
              <a:rPr sz="4400"/>
            </a:br>
            <a:r>
              <a:rPr b="1" lang="pt-BR" sz="4400" spc="-1" strike="noStrike">
                <a:solidFill>
                  <a:srgbClr val="000000"/>
                </a:solidFill>
                <a:latin typeface="Baskerville Old Face"/>
              </a:rPr>
              <a:t>É um contentamento descontente;</a:t>
            </a:r>
            <a:br>
              <a:rPr sz="4400"/>
            </a:br>
            <a:r>
              <a:rPr b="1" lang="pt-BR" sz="4400" spc="-1" strike="noStrike">
                <a:solidFill>
                  <a:srgbClr val="000000"/>
                </a:solidFill>
                <a:latin typeface="Baskerville Old Face"/>
              </a:rPr>
              <a:t>É dor que desatina sem doer.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5">
            <a:hlinkClick r:id="rId2"/>
          </p:cNvPr>
          <p:cNvSpPr/>
          <p:nvPr/>
        </p:nvSpPr>
        <p:spPr>
          <a:xfrm>
            <a:off x="155520" y="46080"/>
            <a:ext cx="110484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7"/>
          <p:cNvSpPr/>
          <p:nvPr/>
        </p:nvSpPr>
        <p:spPr>
          <a:xfrm>
            <a:off x="155520" y="46080"/>
            <a:ext cx="110484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11053passaros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6834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755640" y="2558520"/>
            <a:ext cx="8064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Baskerville Old Face"/>
              </a:rPr>
              <a:t>Ainda que eu falasse</a:t>
            </a:r>
            <a:br>
              <a:rPr sz="4000"/>
            </a:br>
            <a:r>
              <a:rPr b="1" lang="pt-BR" sz="4000" spc="-1" strike="noStrike">
                <a:solidFill>
                  <a:srgbClr val="ffffff"/>
                </a:solidFill>
                <a:latin typeface="Baskerville Old Face"/>
              </a:rPr>
              <a:t>A língua dos homens</a:t>
            </a:r>
            <a:br>
              <a:rPr sz="4000"/>
            </a:br>
            <a:r>
              <a:rPr b="1" lang="pt-BR" sz="4000" spc="-1" strike="noStrike">
                <a:solidFill>
                  <a:srgbClr val="ffffff"/>
                </a:solidFill>
                <a:latin typeface="Baskerville Old Face"/>
              </a:rPr>
              <a:t>E falasse a língua dos anjos</a:t>
            </a:r>
            <a:br>
              <a:rPr sz="4000"/>
            </a:br>
            <a:r>
              <a:rPr b="1" lang="pt-BR" sz="4000" spc="-1" strike="noStrike">
                <a:solidFill>
                  <a:srgbClr val="ffffff"/>
                </a:solidFill>
                <a:latin typeface="Baskerville Old Face"/>
              </a:rPr>
              <a:t>Sem amor eu nada seria.</a:t>
            </a:r>
            <a:r>
              <a:rPr b="1" lang="pt-BR" sz="40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6971passaros"/>
          <p:cNvPicPr/>
          <p:nvPr/>
        </p:nvPicPr>
        <p:blipFill>
          <a:blip r:embed="rId1"/>
          <a:stretch/>
        </p:blipFill>
        <p:spPr>
          <a:xfrm>
            <a:off x="-324000" y="-774720"/>
            <a:ext cx="9468000" cy="76327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Baskerville Old Face"/>
              </a:rPr>
              <a:t>É um não querer mais que bem querer;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Baskerville Old Face"/>
              </a:rPr>
              <a:t>É solitário andar por entre a gente;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Baskerville Old Face"/>
              </a:rPr>
              <a:t>É um não contentar-se de contente;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Baskerville Old Face"/>
              </a:rPr>
              <a:t>É cuidar que se ganha em se perder.</a:t>
            </a:r>
            <a:r>
              <a:rPr b="0" lang="pt-BR" sz="40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passaro_uirapuru"/>
          <p:cNvPicPr/>
          <p:nvPr/>
        </p:nvPicPr>
        <p:blipFill>
          <a:blip r:embed="rId1"/>
          <a:stretch/>
        </p:blipFill>
        <p:spPr>
          <a:xfrm>
            <a:off x="0" y="46080"/>
            <a:ext cx="9396360" cy="68994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É um estar-se preso por vontade;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É servir a quem vence, o vencedor;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É um ter com quem nos mata a lealdade.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Tão contrário a si é o mesmo am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passaro"/>
          <p:cNvPicPr/>
          <p:nvPr/>
        </p:nvPicPr>
        <p:blipFill>
          <a:blip r:embed="rId1"/>
          <a:stretch/>
        </p:blipFill>
        <p:spPr>
          <a:xfrm>
            <a:off x="-396720" y="-3051000"/>
            <a:ext cx="9762840" cy="125283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1763640" y="1536480"/>
            <a:ext cx="69534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Baskerville Old Face"/>
              </a:rPr>
              <a:t>Estou acordado e todos dormem.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Baskerville Old Face"/>
              </a:rPr>
              <a:t>Todos dormem. Todos dormem.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Baskerville Old Face"/>
              </a:rPr>
              <a:t>Agora vejo em parte,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Baskerville Old Face"/>
              </a:rPr>
              <a:t>Mas então veremos face a fa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semeando_passaros_1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8673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Baskerville Old Face"/>
              </a:rPr>
              <a:t>É só o amor! É só o amor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Baskerville Old Face"/>
              </a:rPr>
              <a:t>Que conhece o que é ver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23:09:14Z</dcterms:created>
  <dc:creator>SEDMS</dc:creator>
  <dc:description/>
  <dc:language>en-US</dc:language>
  <cp:lastModifiedBy>ACER</cp:lastModifiedBy>
  <dcterms:modified xsi:type="dcterms:W3CDTF">2010-10-19T21:52:11Z</dcterms:modified>
  <cp:revision>5</cp:revision>
  <dc:subject/>
  <dc:title>Slide 1</dc:title>
</cp:coreProperties>
</file>